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E85-56C1-4C81-BE85-47B2D3E3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768-1162-4273-8ACC-34B5EA36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F304-EAEA-4C3F-BFEF-EE971F3B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0D4-6E44-4DAC-B645-9402FFE0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BB1F-04FA-454F-B747-10CAF13F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9301-DCEF-4710-A1F4-59C24925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E5B3-1912-46A1-BFA1-A24A94B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4D5E-0DBA-4079-B64E-D731711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1EB8-8037-4127-971B-F110E896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B687-078F-413C-8499-4D1A5EDF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BF18-5821-4334-BFB4-9AA961DE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D08-5B3A-4E72-8ECD-8C3EB721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A360-E828-438A-8016-6A53F4E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4F4A-3BB1-4FA1-B7DF-1B9F47B4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7C10-A474-4FD8-83F5-C8D9C069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FEFD-A3DC-45E5-B066-69AA617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860-6935-4E5C-B199-87FD18D5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721-CFE8-40CE-9B4C-70C07AD2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50C-3E0A-4FE9-A708-2F26C48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DCD-5299-421B-AD64-C7757C9B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09D-A12A-4BAA-834A-9729ADC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A6D-F039-4F1B-8B27-1188D0F0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FCE-3243-4989-8394-173E2BE1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5DC-C25C-4D24-9A7B-67124FE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1EBF-4EEF-4AB0-804B-7F75445E508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D365-41A9-4177-8ABC-A964224CFC9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8288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兰州市外国语学校现代技术教学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97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0——200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年度第二学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D05219_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.Exerci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’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B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e thr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l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            B       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T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e 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B       C     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Would you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 ca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cu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B            C             D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Pl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B     C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91440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.Ask and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3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057400"/>
            <a:ext cx="2190600" cy="573120"/>
            <a:chOff x="914400" y="2057400"/>
            <a:chExt cx="2190600" cy="573120"/>
          </a:xfrm>
        </p:grpSpPr>
        <p:pic>
          <p:nvPicPr>
            <p:cNvPr id="180" name="苹果" descr=""/>
            <p:cNvPicPr/>
            <p:nvPr/>
          </p:nvPicPr>
          <p:blipFill>
            <a:blip r:embed="rId1"/>
            <a:stretch/>
          </p:blipFill>
          <p:spPr>
            <a:xfrm>
              <a:off x="9144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苹果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苹果" descr="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59076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苹果" descr=""/>
            <p:cNvPicPr/>
            <p:nvPr/>
          </p:nvPicPr>
          <p:blipFill>
            <a:blip r:embed="rId4"/>
            <a:stretch/>
          </p:blipFill>
          <p:spPr>
            <a:xfrm>
              <a:off x="25146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838080" y="4495680"/>
            <a:ext cx="2211480" cy="814680"/>
            <a:chOff x="838080" y="4495680"/>
            <a:chExt cx="2211480" cy="814680"/>
          </a:xfrm>
        </p:grpSpPr>
        <p:pic>
          <p:nvPicPr>
            <p:cNvPr id="185" name="梨" descr=""/>
            <p:cNvPicPr/>
            <p:nvPr/>
          </p:nvPicPr>
          <p:blipFill>
            <a:blip r:embed="rId5"/>
            <a:stretch/>
          </p:blipFill>
          <p:spPr>
            <a:xfrm>
              <a:off x="8380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梨" descr=""/>
            <p:cNvPicPr/>
            <p:nvPr/>
          </p:nvPicPr>
          <p:blipFill>
            <a:blip r:embed="rId6"/>
            <a:stretch/>
          </p:blipFill>
          <p:spPr>
            <a:xfrm>
              <a:off x="137160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梨" descr=""/>
            <p:cNvPicPr/>
            <p:nvPr/>
          </p:nvPicPr>
          <p:blipFill>
            <a:blip r:embed="rId7"/>
            <a:stretch/>
          </p:blipFill>
          <p:spPr>
            <a:xfrm>
              <a:off x="1905120" y="4495680"/>
              <a:ext cx="61092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梨" descr=""/>
            <p:cNvPicPr/>
            <p:nvPr/>
          </p:nvPicPr>
          <p:blipFill>
            <a:blip r:embed="rId8"/>
            <a:stretch/>
          </p:blipFill>
          <p:spPr>
            <a:xfrm>
              <a:off x="24382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505320" y="1600200"/>
            <a:ext cx="510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1911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apple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pear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943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f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.Sentence stres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pear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ba  nana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  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apple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  can’t see   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914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1337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410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47242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7432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429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562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28195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1911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876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Spelling and pronunciati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      w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sh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e         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j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         t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m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9144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AN02131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590920" cy="358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43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: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AN02354_" descr=""/>
          <p:cNvPicPr/>
          <p:nvPr/>
        </p:nvPicPr>
        <p:blipFill>
          <a:blip r:embed="rId1"/>
          <a:stretch/>
        </p:blipFill>
        <p:spPr>
          <a:xfrm>
            <a:off x="457200" y="1876320"/>
            <a:ext cx="1981080" cy="39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23623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e/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1600200"/>
            <a:ext cx="518184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    l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    m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    br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   h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Listen and choo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ere are Tim and Li Shan ?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t school      B.At Li Shan’ home     C.At Tim’s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Li Shan wants 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ear          B.an orange                  C.an ap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Tim gives her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iece of bread                  B.two pieces of bread C.three pieces o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.Tim gives Li Shan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cup of tea       B.a glass of juice        C.a glass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5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976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74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6600" y="49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BD10581_" descr=""/>
          <p:cNvPicPr/>
          <p:nvPr/>
        </p:nvPicPr>
        <p:blipFill>
          <a:blip r:embed="rId1"/>
          <a:srcRect l="58768" t="0" r="0" b="0"/>
          <a:stretch/>
        </p:blipFill>
        <p:spPr>
          <a:xfrm>
            <a:off x="6172200" y="1752480"/>
            <a:ext cx="14493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143000" y="1981080"/>
            <a:ext cx="2971800" cy="3849840"/>
            <a:chOff x="1143000" y="1981080"/>
            <a:chExt cx="2971800" cy="3849840"/>
          </a:xfrm>
        </p:grpSpPr>
        <p:pic>
          <p:nvPicPr>
            <p:cNvPr id="227" name="PE03752_" descr=""/>
            <p:cNvPicPr/>
            <p:nvPr/>
          </p:nvPicPr>
          <p:blipFill>
            <a:blip r:embed="rId2"/>
            <a:stretch/>
          </p:blipFill>
          <p:spPr>
            <a:xfrm>
              <a:off x="2133720" y="3733920"/>
              <a:ext cx="146988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E03752_" descr=""/>
            <p:cNvPicPr/>
            <p:nvPr/>
          </p:nvPicPr>
          <p:blipFill>
            <a:blip r:embed="rId3"/>
            <a:stretch/>
          </p:blipFill>
          <p:spPr>
            <a:xfrm>
              <a:off x="1143000" y="2362320"/>
              <a:ext cx="13939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BD06858_" descr=""/>
            <p:cNvPicPr/>
            <p:nvPr/>
          </p:nvPicPr>
          <p:blipFill>
            <a:blip r:embed="rId4"/>
            <a:srcRect l="-2117" t="-2044" r="55334" b="0"/>
            <a:stretch/>
          </p:blipFill>
          <p:spPr>
            <a:xfrm>
              <a:off x="2438280" y="1981080"/>
              <a:ext cx="1676520" cy="16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H02774J" descr=""/>
          <p:cNvPicPr/>
          <p:nvPr/>
        </p:nvPicPr>
        <p:blipFill>
          <a:blip r:embed="rId5"/>
          <a:stretch/>
        </p:blipFill>
        <p:spPr>
          <a:xfrm>
            <a:off x="4038480" y="1066680"/>
            <a:ext cx="2362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Unit 19 Food and drink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Lesson 76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133720"/>
          <a:ext cx="29718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9718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Daily repor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572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日历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Everyday English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2178000"/>
            <a:ext cx="786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breakfa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lun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upper?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E03478_" descr=""/>
          <p:cNvPicPr/>
          <p:nvPr/>
        </p:nvPicPr>
        <p:blipFill>
          <a:blip r:embed="rId1"/>
          <a:stretch/>
        </p:blipFill>
        <p:spPr>
          <a:xfrm>
            <a:off x="1219320" y="3762360"/>
            <a:ext cx="2438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Find the food and drink wo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64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3680" y="5987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Look and say 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880"/>
            <a:ext cx="60948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梨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98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47880" y="1905120"/>
            <a:ext cx="2536920" cy="966600"/>
            <a:chOff x="1847880" y="1905120"/>
            <a:chExt cx="2536920" cy="966600"/>
          </a:xfrm>
        </p:grpSpPr>
        <p:pic>
          <p:nvPicPr>
            <p:cNvPr id="136" name="梨" descr=""/>
            <p:cNvPicPr/>
            <p:nvPr/>
          </p:nvPicPr>
          <p:blipFill>
            <a:blip r:embed="rId2"/>
            <a:stretch/>
          </p:blipFill>
          <p:spPr>
            <a:xfrm>
              <a:off x="18478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梨" descr=""/>
            <p:cNvPicPr/>
            <p:nvPr/>
          </p:nvPicPr>
          <p:blipFill>
            <a:blip r:embed="rId3"/>
            <a:stretch/>
          </p:blipFill>
          <p:spPr>
            <a:xfrm>
              <a:off x="24382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梨" descr=""/>
            <p:cNvPicPr/>
            <p:nvPr/>
          </p:nvPicPr>
          <p:blipFill>
            <a:blip r:embed="rId4"/>
            <a:stretch/>
          </p:blipFill>
          <p:spPr>
            <a:xfrm>
              <a:off x="3048120" y="1905120"/>
              <a:ext cx="72684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梨" descr=""/>
            <p:cNvPicPr/>
            <p:nvPr/>
          </p:nvPicPr>
          <p:blipFill>
            <a:blip r:embed="rId5"/>
            <a:stretch/>
          </p:blipFill>
          <p:spPr>
            <a:xfrm>
              <a:off x="365760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苹果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1066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28800" y="3429000"/>
            <a:ext cx="2590920" cy="857160"/>
            <a:chOff x="1828800" y="3429000"/>
            <a:chExt cx="2590920" cy="857160"/>
          </a:xfrm>
        </p:grpSpPr>
        <p:pic>
          <p:nvPicPr>
            <p:cNvPr id="142" name="苹果" descr=""/>
            <p:cNvPicPr/>
            <p:nvPr/>
          </p:nvPicPr>
          <p:blipFill>
            <a:blip r:embed="rId7"/>
            <a:stretch/>
          </p:blipFill>
          <p:spPr>
            <a:xfrm>
              <a:off x="182880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苹果" descr=""/>
            <p:cNvPicPr/>
            <p:nvPr/>
          </p:nvPicPr>
          <p:blipFill>
            <a:blip r:embed="rId8"/>
            <a:stretch/>
          </p:blipFill>
          <p:spPr>
            <a:xfrm>
              <a:off x="266688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苹果" descr=""/>
            <p:cNvPicPr/>
            <p:nvPr/>
          </p:nvPicPr>
          <p:blipFill>
            <a:blip r:embed="rId9"/>
            <a:stretch/>
          </p:blipFill>
          <p:spPr>
            <a:xfrm>
              <a:off x="350532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香蕉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1523880" cy="988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133720" y="4724280"/>
            <a:ext cx="2286000" cy="1208160"/>
            <a:chOff x="2133720" y="4724280"/>
            <a:chExt cx="2286000" cy="1208160"/>
          </a:xfrm>
        </p:grpSpPr>
        <p:pic>
          <p:nvPicPr>
            <p:cNvPr id="147" name="香蕉" descr=""/>
            <p:cNvPicPr/>
            <p:nvPr/>
          </p:nvPicPr>
          <p:blipFill>
            <a:blip r:embed="rId11"/>
            <a:stretch/>
          </p:blipFill>
          <p:spPr>
            <a:xfrm>
              <a:off x="2133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香蕉" descr=""/>
            <p:cNvPicPr/>
            <p:nvPr/>
          </p:nvPicPr>
          <p:blipFill>
            <a:blip r:embed="rId12"/>
            <a:stretch/>
          </p:blipFill>
          <p:spPr>
            <a:xfrm>
              <a:off x="3276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香蕉" descr=""/>
            <p:cNvPicPr/>
            <p:nvPr/>
          </p:nvPicPr>
          <p:blipFill>
            <a:blip r:embed="rId13"/>
            <a:stretch/>
          </p:blipFill>
          <p:spPr>
            <a:xfrm>
              <a:off x="2743200" y="4724280"/>
              <a:ext cx="114300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4786920" y="2124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7160" y="2133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5840" y="3571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0120" y="36576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62520" y="52484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n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120" y="52578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an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505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lass of 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95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茶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2" name="咖啡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水" descr=""/>
          <p:cNvPicPr/>
          <p:nvPr/>
        </p:nvPicPr>
        <p:blipFill>
          <a:blip r:embed="rId3"/>
          <a:stretch/>
        </p:blipFill>
        <p:spPr>
          <a:xfrm>
            <a:off x="3886200" y="2895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水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129564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PE03553_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198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/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定冠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数名词单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a pear     a bottle      an 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water      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形容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可数名词复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不可数名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ome pears         some ap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           some te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144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BD04915_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不可数名词量的表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修饰不可数名词。表示量的多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,some bread,some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数量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可数名词，表示具体的量。常用的词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p,glass,bottle,pie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oran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pieces of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83808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4915_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4:45:33Z</dcterms:created>
  <dc:creator>dd</dc:creator>
  <dc:description/>
  <dc:language>en-US</dc:language>
  <cp:lastModifiedBy>jinke</cp:lastModifiedBy>
  <dcterms:modified xsi:type="dcterms:W3CDTF">2001-03-27T06:01:30Z</dcterms:modified>
  <cp:revision>25</cp:revision>
  <dc:subject/>
  <dc:title>Unit 19 Food and drink</dc:title>
</cp:coreProperties>
</file>